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04C-C124-4508-A873-10413652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931-B92C-4A89-9964-60C140FC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695-7B22-408F-B443-81D4D6A4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E39-99FA-4A60-B827-4CD4AFE0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8C8F-338C-4C66-9AE6-F1A5A059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58DB-89F8-47D1-8DEC-DA256FE2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0AD-1850-45F2-AFEC-D3F2D4E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4290-B2D8-44F4-B961-56241287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C5D4-2571-480A-8F4B-C9BEC4D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D123-EF66-4526-99E8-EBB95F80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1B7-D2E5-4739-9297-11FD431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0E3-8876-433F-AB8D-BC4DA7B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12C0-A105-4895-B974-3644CD34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0E46-7DC8-47D1-8387-80FAB84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1BA-0665-4F42-85E3-75D24F2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C3EB-F139-408C-A838-350D36FE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D08-C180-4D05-A8AA-30E54D69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7AFF-A3AC-4158-9E26-D412279D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2AE3-DE74-4DF3-8D46-A64D2E71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5452-7901-4A02-A4CB-6C4D662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7421-2A8F-4FD9-B1A1-EDA1BF3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95A4-1079-4EF2-AD2E-12C8B9C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68D-8A11-4B25-B274-9916206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2A43-E3B2-497A-A46E-CCA5BF2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859F-D547-4C32-ABD2-5017958F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177F-B57E-44BB-8825-CD788067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72B0-6574-4DF5-8E2C-DB8498F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E524-CB9B-402A-97D1-085DCC5A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EC38-98C6-4168-ADBA-EA02864A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80F8-1BEC-4D23-B508-AB07E613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253-08BF-4B94-9600-33156F23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0A1-6358-409C-A5D4-9829CE9D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EC3-B56F-442E-9D94-14E7D747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DE3-A736-4059-BE11-C2C4978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2F2-E721-4259-9722-2866902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67B-E4FC-4CFF-96E2-BB070FD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F5C-C6D2-46F6-A630-70EA68D08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3274-502A-454B-BD0B-E818E9CB58D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7A8-0E48-4EBD-B76C-F76DE6F2AF6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37440" y="1773360"/>
            <a:ext cx="5667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月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华文行楷"/>
              </a:rPr>
              <a:t>－－你准备好了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371600" y="0"/>
            <a:ext cx="10515600" cy="733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143000" y="15238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学习如逆水行舟，不进则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657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这个道理大家都明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5000" y="44280"/>
            <a:ext cx="85406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令人深思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3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　　夜深了，一位巴格达商人走在黑黢黢的山路上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1300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700" spc="-1" strike="noStrike">
                <a:solidFill>
                  <a:srgbClr val="009999"/>
                </a:solidFill>
                <a:latin typeface="Arial"/>
              </a:rPr>
              <a:t>　　</a:t>
            </a: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突然，有个神秘的声音传来：“弯下腰，多捡些小石子儿，明天会有用的”。商人弯下腰，捡起几颗小石子儿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13000"/>
            <a:ext cx="921708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到了第二天，商人从口袋掏出小石子儿看时，才发现那所谓的小石子儿原来是一颗颗亮晶晶的宝石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0" y="5040360"/>
            <a:ext cx="9217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自然，也正是这些宝石，是他立即变得后悔不迭</a:t>
            </a: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-----</a:t>
            </a:r>
            <a:r>
              <a:rPr b="1" lang="zh-CN" sz="3700" spc="-1" strike="noStrike">
                <a:solidFill>
                  <a:srgbClr val="333399"/>
                </a:solidFill>
                <a:latin typeface="Arial"/>
              </a:rPr>
              <a:t>天啊！昨晚怎么就没有多捡些呢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5000" y="228600"/>
            <a:ext cx="85406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00280"/>
            <a:ext cx="9468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66"/>
                </a:solidFill>
                <a:latin typeface="Arial"/>
              </a:rPr>
              <a:t>学习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就是这么回事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－－当我们长大成人之后，才会发现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　　以前学的科学知识是珍贵的宝石；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　　我们这时也才会觉得可惜，因为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　　我们学到的毕竟太少了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700280"/>
            <a:ext cx="7923240" cy="26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努力，再努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做到最好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68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89440" y="785880"/>
            <a:ext cx="10476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在就要考试的时候经常会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样的同学．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一 方 面：想抓紧时间，努力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另一方面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又常常举旗不定，不知从何　　　　　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　　　　下手，往往由于一些小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　　　　而自暴自弃　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　　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6798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最好的解决方法，就是使学习具有“计划性”。计划是实现目标的前提．做事没有计划，只见树木，不见森林。生活对于没有计划的人来说，就是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“走一步看一步”，“当一天和尚撞一天钟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934320" y="5605560"/>
            <a:ext cx="22096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2527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“田忌赛马”的故事大家都很熟悉，由于田忌的谋划，三匹不好的马却赛过了三匹好马。如果只是田忌的单匹马与国王的单匹马赛跑的话，国王肯定会赢，但在三匹马的整体安排上，国王却输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47920" y="3808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田忌赛马”的故事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962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具体故事是这样的，就好马、中马和差马三个档次而言，田忌的马都不如国王的马，但田忌在连续三场比赛中，先用自己的差马迎战国王的好马，故意在第一场较量中大败，然后在第二场比赛中，田忌用自己的好马去迎战国王的中马，第三场比赛中，田忌又用自己的中马去迎战国王的差马，结果连扳两场，反败为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81480" y="5867280"/>
            <a:ext cx="10670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9280" y="3636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初中的学习也一样，并不只是让你在同一条起跑线上简简单单地跑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00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米就行了，它也涉及到各门功课之间的安排，学习和休息、娱乐的安排等等。所以即使在智力上比不过人家的学生，如果真正懂得“田忌赛马”的道理，懂得如何去计划的话，他也能在最后考试中获胜，甚至比很多聪明的学生做得更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9640" y="620640"/>
            <a:ext cx="670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“</a:t>
            </a: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田忌赛马”故事的启示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3353760"/>
            <a:ext cx="84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6c2ad6"/>
                </a:solidFill>
                <a:latin typeface="Arial"/>
              </a:rPr>
              <a:t>别人告诉你的方法是很难完全套用的。只有自己去试着做，摸索出自己的完整方法，才是最有用的。而别人告诉你的方法，最多只能充当一个指路标的作用。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692360" y="1125360"/>
            <a:ext cx="5486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什么是最好的计划</a:t>
            </a:r>
            <a:endParaRPr b="0" lang="en-US" sz="5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685800" y="-237960"/>
            <a:ext cx="10515600" cy="7333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21074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首先，要让自己知道，每天你具体干些什么，知道考试的这两天的安排．一句话，就是做到心里有谱。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4760" y="4572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学习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5772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其次，计划的安排应合理、科学，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要让你的时间浪费。但如果你的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黄金时间在上午，就要很好的利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合理的安排学习．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27882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详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一份计划上只出现时间和科目是不够的，最起码还要有具体的章节的安排，还应包括做哪些习题，看哪些笔记，这样才能真正地发挥计划的优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2880" y="639720"/>
            <a:ext cx="177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计划要“详、实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533304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就是一定要符合自己的实际情况，适当地高一些也可以，但绝不可过高或过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38040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坚持”是计划实施过程中最难的。由于缺乏毅力与恒心，很易虎头蛇尾。而学习是一个周期比较长的过程，今天的努力，并不能在明天就得到回报。所以在实施计划时，一时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到进步不要心焦，更不要气馁、不要轻言放弃。坚持！坚持一定能产生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609480"/>
            <a:ext cx="311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坚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90372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34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17:29Z</dcterms:modified>
  <cp:revision>6</cp:revision>
  <dc:subject>主题班会课件(分28大类): http://shop62905894.taobao.com</dc:subject>
  <dc:title>主题班会课件(分28大类): http://shop62905894.taobao.com</dc:title>
</cp:coreProperties>
</file>